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52C-5655-4D06-A164-21D26675C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1B6-E63B-4C20-BB6A-3EA3563333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BFA-E48D-4234-B4C2-B4EAFE3A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612-0CDE-4801-9D82-295080C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E10-BB7D-4629-8874-01A9CEBE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885-CB66-4E91-8F2E-290D7880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EE882-485C-4909-8BED-322A3AFF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01B4-8A2E-4A8F-864C-FD020A96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1FFDC-E047-43C1-876D-3459BD2E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F98AB-2E73-4B10-8EBF-48F078C9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377F4-4000-4FBD-A43A-6329B7D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A0D51-9CB2-4B9C-B123-DFB5D274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FC907-4D33-470D-B670-D665554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9AA-457B-4683-BA41-0EC4F79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9151C-6F57-48B7-B564-D54923E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7B2F3-D2E9-4AEE-985B-D318FD1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FC42C-71E5-4C20-896F-A63491F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2A2F-89A4-4A99-8B17-95246854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CDA4-186A-411F-A6B4-E4C311E9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7798-16E6-4158-BB12-C6E5FE72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1F7F-F38F-469C-8E92-B573D572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6147-6D24-408A-8B1E-054CC30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C71B-A9DA-416D-92F2-D9AD533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19C0-3A48-436C-9FAE-09754BF8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BD9-E61B-4C66-9E80-192A3F8C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19EA-B07C-4DC1-B7FC-70C35FD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B4C8-D571-41DD-A437-D9E9A58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F4ED-7FA7-45BF-BCF9-446F444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FCA1-07B8-4451-A596-007FF73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9048-1807-4467-8351-6EC3FCC6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CB52-4A15-4EBC-8914-79D8FC9C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01D6-EC57-40B6-A2F0-6F196DF0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7F39-99A1-46F1-AA17-4124DEBC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AF5B-CF63-4337-B553-6C9A3DC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F504-D80F-4799-A033-254C4B98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2A1-7185-4F2E-A7BD-85D4FD3D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66C4-1851-4694-A200-47F8355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34D1-2261-4FBF-9D03-2DE4EA1C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50F8-3799-4B42-90F3-DA7D4A4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D453-C27E-47A2-83D4-0450587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9103-3A4C-4BC2-AFE5-0344F13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9DBE-BE1D-4A97-84F5-F2D153F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8FE0-7B7D-41B1-94D0-08586DC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0560-5E98-47E6-A682-B03BB50E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2160-F30F-4C68-8E2A-CC5E897E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F653-F405-4BBC-9A53-A35D8AFC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6EC-18F9-4CD3-8F57-7C5849C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3D57-F9DA-45DB-B874-92D2405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876FB-B7FF-4ED0-9474-56D7EEA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14A9-155A-47FE-928E-2CAA5C05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9D6B-88EF-4161-9235-3032F28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F977-0214-454A-B31B-FEFD037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7344-0FD9-48A4-90CA-CC791053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EF48-AECB-4714-8A42-540BDAC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E0A04-5902-48A9-B7F5-27A5A5C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2C1F-8754-4531-8D2E-C245391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B0A1-7501-45B3-BB2A-62B2AAAD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922-AFA8-46BD-8029-7554278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E368-FF39-41C9-BAAF-B6DDADA5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D046A-B3CA-45A0-AF80-C6CA25CF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97CB-0FF6-4B05-ACE6-E501716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7A61-9A82-473D-B589-E59B4E41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83C3-4BED-4043-B904-3483676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BA4DE-4208-4282-88B1-4DBFD5D8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C49C-FB2B-4BBB-AED6-2B048100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7B0D-6FCB-477A-8218-0863F0A6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D48B-B6D4-4B47-917A-899BABA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27A0-F7EB-4D25-AB1F-FCBB820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186-4494-4A26-8792-B6E559D5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895B6-B365-4D14-90A5-677CB45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6666-5467-4554-BE91-0CF20CAE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724A2-2348-4DBC-BD9B-A81BC88F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E45CD-BE84-406D-A4BB-D361251D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D0B7-B3E2-48F7-8B12-699942C0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23ECF-1795-4411-8D45-453FC4D4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7DBFD-6B4B-430A-B8C7-DD95487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2FE67-54DF-46F4-A512-6C6E3D1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C364-D37A-4BF6-BD25-C9A4AB24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E4AB-B04F-42DC-BA9B-89BC738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3D2-FBE3-4835-BA86-44B8C1E2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10D5-C52F-49A6-A3F4-276C22D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45F2-F88C-4C28-9FBE-D8F3C27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85BC5-22AC-4464-B162-2AD06319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8597E-666A-42E8-BE5D-E46E53B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A27A-C625-46A3-A26C-7EE77410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1D852-7FC3-4A08-9331-83E1DA1C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3997C-8935-4E84-B8B9-C2EF27E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B5E8A-8DC7-4E20-B044-9F87DAF8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FC02A-1BF7-439C-AB61-2435B29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C68DD-7795-4480-B0EB-0FEA45F1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AC6-385B-4EAA-81F1-514DDB8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9751B-F744-4292-8B5E-452F4E47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7B96-A2B5-44A4-BF5D-119E887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ED40-3165-4332-B42F-C12712D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6BAF-1438-4750-AFF7-09D59A37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E2BF-19B8-4433-90BB-76E88397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AF2A6-C2B6-4790-9EA5-E167D9CB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CB18B-FC00-4D68-A21F-666D1FAB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3CC-AE6D-41DC-9C9D-3FF5F7832D0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E05-E141-41FC-8024-E616530A820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0067-13FD-411A-B9DF-13898DBE424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B7EF-F5C9-49C0-B677-20F1524CA77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DD9-1493-414B-8D11-3C520284EE6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C77A-8A1C-444F-B0CA-5E023AF4C4D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3E4-3519-491F-953C-F58E9F794BB2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BEE7-DE81-41E6-8735-3AC9CC98D351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Unit 4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GREBERT,VIVIANE</cp:lastModifiedBy>
  <dcterms:modified xsi:type="dcterms:W3CDTF">2017-03-14T18:16:08Z</dcterms:modified>
  <cp:revision>102</cp:revision>
  <dc:subject/>
  <dc:title>Allez, viens! – Level 2</dc:title>
</cp:coreProperties>
</file>